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4185-FFF5-4A76-982B-B70B65BDB33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pi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737E-B742-4CF2-84FB-8C8DF9063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031C-0743-43C5-B174-0681E243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F0F4-6F9F-4281-8083-B20F446EC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A5B5-F164-47E6-BBDA-865CD0B0C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55CA-711D-4C33-BCD6-2602D7A9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D714-85C6-4695-BCDC-2BB0FF63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4580-2B57-46CA-9D1E-1C175920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BD77-CF7A-4F56-A8EF-273B8C1C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348F-19C7-4EC8-B7FF-CEDC9907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4556-9453-4973-8589-EE706306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E10F-B6A9-432A-9082-DB971B25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0E68-8C8E-4B12-BCDB-B5848155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2631-244C-4E29-8ED8-57FDCF635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oogle.es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800000"/>
                </a:solidFill>
                <a:uFillTx/>
                <a:latin typeface="Arial"/>
              </a:rPr>
              <a:t>La Guerra Civi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810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Álvaro González Garc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Sara Martín Sánch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4º ESO. Junio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IES. Federico García Bernal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El Enfrentamiento de 193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división dentro de las fuerzas republica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frentamiento armado en Barcelo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an Negrin formó un gran ejerc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ítica de resistencia a ultranza (trece puntos Negrí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Un Nuevo Est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nta de defensa que nombró al general Franco generalísimo y jefe del gobi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ó las FET y de las J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 nuevo estado inspirado en el fasc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eminencia del catolic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tivo: acabar con las reformas republica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105160" cy="3581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371600" y="380988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4290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ta de Defe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733920" y="3276720"/>
            <a:ext cx="487656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La Represión sistemá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ecución sistemática del Frente Pop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represión afectó a todos los republic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La Evolución Bél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desarrollo del confli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avance hacia Madr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Batalla del No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Batalla del Eb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fin de la Guerra y el exil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El Desarrollo del Confli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s zon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cionalistas: están en zonas agrícolas y de orientación política conservad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ublicanos: Están en las grandes ciudades y los núcleos industriales y obre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El Avance hacia Madr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estrategia de los sublevados era avanzar hacia Madrid y tomar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 fuerzas republicanas frenaron la ofensiva franqui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os los demás intentos fracasaron y decidieron cambiar de fr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Batalla del Nor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7 Batalla del No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6 Abril bombardeo de Gern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 tropas franquistas toman Bilba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 republicanos cayeron en Santander y en Astur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La Batalla del Eb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8 los sublevados llegan al Mediterráne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 republicanos lucharon en la Batalla del Ebro que hizo retroceder al enemi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 franquistas toman Barcelona y llegan a la frontera franc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23880"/>
            <a:ext cx="8229600" cy="3810240"/>
          </a:xfrm>
          <a:prstGeom prst="rect">
            <a:avLst/>
          </a:prstGeom>
          <a:solidFill>
            <a:srgbClr val="fdc7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096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7432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22860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09680"/>
            <a:ext cx="198108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9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2286000"/>
            <a:ext cx="20574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2209680"/>
            <a:ext cx="20574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9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05720" y="2286000"/>
            <a:ext cx="19810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175248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GUERRA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2743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4267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426708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lpe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2743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3886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3886200"/>
            <a:ext cx="2057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Batalla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Bombardeo de Ger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2743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4114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4191120"/>
            <a:ext cx="1676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alla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2743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388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34320" y="3657600"/>
            <a:ext cx="1600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om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cel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in de la Gu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380880"/>
            <a:ext cx="685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45720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Eje Cronológ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Fin de la Guerra y el Exilio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 golpe de Estado contra Negrín, aunque este intentó negociarlo con Fran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la derrota republicana se inició el exilio ante el temor a la represión franqui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os exiliados lucharon en la Segunda Guerra Mund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1523880"/>
            <a:ext cx="8229600" cy="3810240"/>
          </a:xfrm>
          <a:prstGeom prst="rect">
            <a:avLst/>
          </a:prstGeom>
          <a:solidFill>
            <a:srgbClr val="fdc7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22096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7432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22860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2940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2209680"/>
            <a:ext cx="198108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14600" y="2286000"/>
            <a:ext cx="20574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2209680"/>
            <a:ext cx="20574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286000"/>
            <a:ext cx="19810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62320" y="175248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GUERRA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2743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4267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426708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lpe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2743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886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86200"/>
            <a:ext cx="2057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Batalla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Bombardeo de Ger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81480" y="2743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4114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4191120"/>
            <a:ext cx="1676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alla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38880" y="2743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3657600"/>
            <a:ext cx="1600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om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cel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in de la Gu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Una Sociedad en Guer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os bombardeo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Los ataques aéreos sobre las ciudades y las bombas atemorizaron a la población civ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 hamb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Los alimentos empezaron a escasear y apareció un mercado neg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3843360" cy="5288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572000" y="2209680"/>
            <a:ext cx="4343400" cy="317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2286000" y="5791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Bombard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9920" y="22860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Ha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os refugiado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Los republicanos se convirtieron en refugi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os miliciano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Fuerzas civiles voluntarias, organizadas por sindicatos. Permitieron alistamiento de muje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 trabaj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Muchas mujeres se incorporaron, para suplir a los homb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114800" cy="322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181480" y="228600"/>
            <a:ext cx="3738600" cy="368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828800" y="3505320"/>
            <a:ext cx="4251240" cy="316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304920" y="3124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Los Refugi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5320" y="35053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La mujer trabaj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2286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Los milici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971800" y="1143000"/>
            <a:ext cx="2881440" cy="19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IN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3733920"/>
            <a:ext cx="6705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bliografí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   Fotografías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google.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   Texto: Demos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El Estallido de la Guerra Civ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6-193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licto entre los partidos de la refor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izó con el estallido de la Guerra Civ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Golpe de Estado    Guerra Civ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lpe de Est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apoderaron de los órganos del gobi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 sublevados se hacen fuer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 republicanos frenan el Golpe de Est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paña quedó dividida en dos z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29200" y="914400"/>
            <a:ext cx="38088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La Internacionalización del Confli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n repercusión interna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rontación entre las fuerzas democráticas y los regímenes fascis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 sublevados contaron con la ayuda Italiana y Alema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ité de “no intervención” que perjudicó a la Repúbl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gadas internaci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3816360" cy="5288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800600" y="762120"/>
            <a:ext cx="3905280" cy="528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Las dos zonas enfrenta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zona republicana: guerra y revolu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volución so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enfrentamiento de 193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zona sublevada: una dictadura mili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nuevo es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 represión sistemá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La Revolución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ción de Comit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desató el anticlerica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ímbolos aristocráticos, burgueses o religiosos fueron perseguidos como enemig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o Caballero intentó controlar la revol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ron un ejercito pop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6:23:12Z</dcterms:created>
  <dc:creator>Usuario</dc:creator>
  <dc:description/>
  <dc:language>en-US</dc:language>
  <cp:lastModifiedBy>Equipo</cp:lastModifiedBy>
  <dcterms:modified xsi:type="dcterms:W3CDTF">2009-06-02T09:28:13Z</dcterms:modified>
  <cp:revision>12</cp:revision>
  <dc:subject/>
  <dc:title>La Guerra Civil</dc:title>
</cp:coreProperties>
</file>